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62199-8F3A-4F53-AF12-D27F11055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2F6CB-6A41-409A-99FD-559012207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AC86F-1AEB-4DC5-87E0-5CB062F54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8B107-9C71-4BBB-9D89-789C496BD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C5009-ECD5-418C-8B81-53CA2FF1E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ED090-4B7B-481B-BED0-4B65E342E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7042E-978D-4069-B4A3-4A02D1782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48275-BCEA-4F61-A8A3-D17473BC2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44219-674D-4C77-A85B-B4865EFEB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02864-FB19-4E18-9E76-0A71F9D7F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AD015-C58F-4555-9EEA-42F511F95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40874-0AE5-40D2-98E4-201522526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6F227-7A86-48D4-953A-3FF4D83D9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7A68B-73E2-4036-9DE7-D9986F6DB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1A87D-5342-4DD6-91A4-8887472CE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E6766-01EB-4DD7-BEDB-E57263093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28F75-D44C-4300-9A56-0DFBE8E43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348C90-913C-4956-98C5-1A2DF909CF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A8452-EC3F-4045-8693-F3CAFF885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2CE90-24F3-4103-A9CC-536F4B4A9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A7DEC-68CC-4504-8AFD-2BA7218A8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D9333-6F81-44F7-9140-E21AD2B29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742B0-36A0-42CE-AF76-988E7589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AA801-0F26-4B3F-BE16-27055CDB57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46B7D-9838-40B3-92FE-02B79232C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BBFBB-9005-49B1-9B5D-8C6C418F4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BC617-B25A-49AE-AEF9-A6CDE6305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602BA-7D70-422C-B45F-1205EA6D9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E6390-D57C-4E1C-875E-FD1E095D0C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6D4FBF-2231-48DD-A6AC-CDC011CC60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1D3BC0-DF30-45DB-B0A2-9DFB5D03CC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266BE-9A5F-45C9-8050-182738C93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7A03A-E7BE-441B-AFA5-A07BAC77F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988F-81B3-430E-8F49-BF26A909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505B84-BEAC-4602-A486-1E5EF6F30F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2A3A6-20E7-4EFD-850E-6FDF22BA9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09FF22-A335-47B9-BEB1-4D8E3F087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E045D-A8C3-4241-BD8A-EA79701A9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88270-D79C-495C-ADE4-954863661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724F9-975C-420F-9679-2A57C4A76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65BAC-1D56-4A55-BE2B-B3CFFE211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BA901C-4CB1-46E1-8163-2AB68DE34D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445172-9B8C-4865-8592-990B4C5E7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D54161-9B83-4E96-9453-81D1067648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FD801-C312-4365-8EF2-698CB0D1D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7EBC67-9E42-46A6-9FC4-1E32A83AB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A8A29-56C4-4FFA-B07C-AA816FAEA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1145D-7A63-435E-AD2E-B128426DB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51C57-67CF-42F5-91BC-F3681C797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C2963-FF85-46E8-AE6C-C89B08A1E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B76B5-9B23-4C2F-8631-E1A3EE195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58BEC-67C0-4365-992C-9FCE2B228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D776C-6B87-461D-A941-13C38F56A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17FFB-99A0-4E87-9C19-3ECC5AD22C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EB7C18-5A23-4B21-BED1-D87601CC09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1DBD-B451-495C-8015-D443F6BE5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2F80F3-0A3C-4A6D-B3FF-CDAD93434B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1523C9-9864-46F4-B517-BEAA8CDA54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F793F-0849-4FB1-897A-F05E0160D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6028F-2D73-4503-B3B4-84C223959D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66269-7212-464F-AF66-1FC896C8D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BF2307-005D-4595-9FFC-2B6B44577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B670C-3809-4C47-8031-BB458A95D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0B6F9-DC87-4A37-8C28-47A6D5A5A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8C070-5BDF-4456-9FAB-C879A0804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B7771-7949-4616-8944-BF952A6A9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EA960-4834-45BC-BE40-704FD38BA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6CE5B0-242A-44F2-9DB0-771987659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C25AD3-BAC7-4A98-805A-CDDC37870A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A6327D-5949-4CAA-9B73-6DEAF62DF7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54DC44-54E5-446E-A484-C23760169A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75811-679A-47EC-B7F7-9BE845F2D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C6BFFF-6D36-45EB-8C2F-C6F753663A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B6D63-F6C9-4B55-A356-023B4F310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98549A-853A-4881-B1B1-20C9BBC201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C6A643-86E2-4CEF-8C18-682ED5D076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3AF03-A1D5-4C1C-AADC-768CC16CF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0361-DE10-4B8A-8427-9183C533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8BD55-DBDD-478C-93B2-9149F4168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84BFC-32BE-47C9-A98A-FF182B42E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C8C3D5-C1A7-4A5B-B9C5-C40C62A44A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20998A-7D25-4F42-9257-2C5508F48A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938012-511D-43E9-A037-F6F9A70284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74F7-10F7-45D7-AC84-553D3F18E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e7edf1">
              <a:alpha val="33000"/>
            </a:srgbClr>
          </a:solidFill>
          <a:ln cap="rnd" w="3240">
            <a:solidFill>
              <a:srgbClr val="006e9b"/>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 name="Oval 7"/>
          <p:cNvSpPr/>
          <p:nvPr/>
        </p:nvSpPr>
        <p:spPr>
          <a:xfrm>
            <a:off x="168120" y="20520"/>
            <a:ext cx="1703520" cy="1703520"/>
          </a:xfrm>
          <a:prstGeom prst="ellipse">
            <a:avLst/>
          </a:prstGeom>
          <a:noFill/>
          <a:ln cap="rnd" w="27360">
            <a:solidFill>
              <a:srgbClr val="b5cfe0"/>
            </a:solidFill>
            <a:miter/>
          </a:ln>
          <a:effectLst>
            <a:outerShdw dist="12600" dir="5400000" blurRad="0" rotWithShape="0">
              <a:srgbClr val="00516e">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 name="Rectangle 11"/>
          <p:cNvSpPr/>
          <p:nvPr/>
        </p:nvSpPr>
        <p:spPr>
          <a:xfrm>
            <a:off x="1012680" y="0"/>
            <a:ext cx="81313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3942-5E06-48DD-B76A-158D51A150C6}"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
        <p:nvSpPr>
          <p:cNvPr id="11" name="Rectangle 14"/>
          <p:cNvSpPr/>
          <p:nvPr/>
        </p:nvSpPr>
        <p:spPr>
          <a:xfrm>
            <a:off x="1014480" y="0"/>
            <a:ext cx="7308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e7edf1">
              <a:alpha val="33000"/>
            </a:srgbClr>
          </a:solidFill>
          <a:ln cap="rnd" w="3240">
            <a:solidFill>
              <a:srgbClr val="006e9b"/>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 name="Oval 7"/>
          <p:cNvSpPr/>
          <p:nvPr/>
        </p:nvSpPr>
        <p:spPr>
          <a:xfrm>
            <a:off x="168120" y="20520"/>
            <a:ext cx="1703520" cy="1703520"/>
          </a:xfrm>
          <a:prstGeom prst="ellipse">
            <a:avLst/>
          </a:prstGeom>
          <a:noFill/>
          <a:ln cap="rnd" w="27360">
            <a:solidFill>
              <a:srgbClr val="b5cfe0"/>
            </a:solidFill>
            <a:miter/>
          </a:ln>
          <a:effectLst>
            <a:outerShdw dist="12600" dir="5400000" blurRad="0" rotWithShape="0">
              <a:srgbClr val="00516e">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3" name="Rectangle 11"/>
          <p:cNvSpPr/>
          <p:nvPr/>
        </p:nvSpPr>
        <p:spPr>
          <a:xfrm>
            <a:off x="1012680" y="0"/>
            <a:ext cx="81313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Rectangle 14"/>
          <p:cNvSpPr/>
          <p:nvPr/>
        </p:nvSpPr>
        <p:spPr>
          <a:xfrm>
            <a:off x="1014480" y="0"/>
            <a:ext cx="7308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8" name="Oval 13"/>
          <p:cNvSpPr/>
          <p:nvPr/>
        </p:nvSpPr>
        <p:spPr>
          <a:xfrm>
            <a:off x="1157400" y="1344600"/>
            <a:ext cx="63360" cy="65160"/>
          </a:xfrm>
          <a:prstGeom prst="ellipse">
            <a:avLst/>
          </a:prstGeom>
          <a:noFill/>
          <a:ln cap="rnd" w="12600">
            <a:solidFill>
              <a:srgbClr val="0c61ae">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FAA6-364B-465C-88FF-1FE19C78A2BB}"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Rectangle 13"/>
          <p:cNvSpPr/>
          <p:nvPr/>
        </p:nvSpPr>
        <p:spPr>
          <a:xfrm>
            <a:off x="2286000" y="0"/>
            <a:ext cx="7632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5" name="Oval 16"/>
          <p:cNvSpPr/>
          <p:nvPr/>
        </p:nvSpPr>
        <p:spPr>
          <a:xfrm>
            <a:off x="2408400" y="2746440"/>
            <a:ext cx="63360" cy="63360"/>
          </a:xfrm>
          <a:prstGeom prst="ellipse">
            <a:avLst/>
          </a:prstGeom>
          <a:noFill/>
          <a:ln cap="rnd" w="12600">
            <a:solidFill>
              <a:srgbClr val="0c61ae">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A612-E7CB-454F-A5EA-CB1D47C6D62D}"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E009-A12D-45BA-B501-D4CC68DD6099}"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Rectangle 13"/>
          <p:cNvSpPr/>
          <p:nvPr/>
        </p:nvSpPr>
        <p:spPr>
          <a:xfrm>
            <a:off x="1014480" y="0"/>
            <a:ext cx="7308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B542-0DE2-498D-8116-BEEC62406918}"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067E-C703-43EF-882F-C66C4A1592FA}"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007cae">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04617b">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52B9-83D0-4997-8D5F-9BF43505D770}"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762120"/>
            <a:ext cx="7407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7f8fd"/>
                </a:solidFill>
                <a:latin typeface="Arial"/>
              </a:rPr>
              <a:t>Legislation</a:t>
            </a:r>
            <a:br>
              <a:rPr sz="3900"/>
            </a:br>
            <a:endParaRPr b="0" lang="en-US" sz="7200" spc="-1" strike="noStrike">
              <a:solidFill>
                <a:srgbClr val="d7f8fd"/>
              </a:solidFill>
              <a:latin typeface="Arial"/>
            </a:endParaRPr>
          </a:p>
        </p:txBody>
      </p:sp>
      <p:sp>
        <p:nvSpPr>
          <p:cNvPr id="319" name="PlaceHolder 2"/>
          <p:cNvSpPr>
            <a:spLocks noGrp="1"/>
          </p:cNvSpPr>
          <p:nvPr>
            <p:ph type="subTitle"/>
          </p:nvPr>
        </p:nvSpPr>
        <p:spPr>
          <a:xfrm>
            <a:off x="1431720" y="1849320"/>
            <a:ext cx="7407000" cy="1198800"/>
          </a:xfrm>
          <a:prstGeom prst="rect">
            <a:avLst/>
          </a:prstGeom>
          <a:noFill/>
          <a:ln w="0">
            <a:noFill/>
          </a:ln>
        </p:spPr>
        <p:txBody>
          <a:bodyPr lIns="90000" rIns="90000" tIns="0" bIns="4680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296"/>
                </a:solidFill>
                <a:latin typeface="Times New Roman"/>
              </a:rPr>
              <a:t>CEA’s Role in legislation</a:t>
            </a:r>
            <a:endParaRPr b="0" lang="en-US" sz="5400" spc="-1" strike="noStrike">
              <a:solidFill>
                <a:srgbClr val="ffffff"/>
              </a:solidFill>
              <a:latin typeface="Times New Roman"/>
            </a:endParaRPr>
          </a:p>
        </p:txBody>
      </p:sp>
      <p:pic>
        <p:nvPicPr>
          <p:cNvPr id="320" name="Picture 4" descr="C:\Users\Greg\AppData\Local\Microsoft\Windows\Temporary Internet Files\Content.IE5\YF1FL2VS\MC900149508[1].wmf"/>
          <p:cNvPicPr/>
          <p:nvPr/>
        </p:nvPicPr>
        <p:blipFill>
          <a:blip r:embed="rId1"/>
          <a:stretch/>
        </p:blipFill>
        <p:spPr>
          <a:xfrm>
            <a:off x="2438280" y="2971800"/>
            <a:ext cx="5334120" cy="367524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a bill become law</a:t>
            </a:r>
            <a:br>
              <a:rPr sz="3900"/>
            </a:br>
            <a:r>
              <a:rPr b="0" lang="en-US" sz="2800" spc="-1" strike="noStrike">
                <a:solidFill>
                  <a:srgbClr val="ffff00"/>
                </a:solidFill>
                <a:latin typeface="Arial"/>
              </a:rPr>
              <a:t>Round one</a:t>
            </a:r>
            <a:endParaRPr b="0" lang="en-US" sz="2800" spc="-1" strike="noStrike">
              <a:solidFill>
                <a:srgbClr val="d7f8fd"/>
              </a:solidFill>
              <a:latin typeface="Arial"/>
            </a:endParaRPr>
          </a:p>
        </p:txBody>
      </p:sp>
      <p:sp>
        <p:nvSpPr>
          <p:cNvPr id="33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a:t>
            </a:r>
            <a:r>
              <a:rPr b="0" lang="en-US" sz="1800" spc="-1" strike="noStrike">
                <a:solidFill>
                  <a:srgbClr val="ffffff"/>
                </a:solidFill>
                <a:latin typeface="Times New Roman"/>
              </a:rPr>
              <a:t>(or Senate depending where it starts)</a:t>
            </a:r>
            <a:endParaRPr b="0" lang="en-US" sz="1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ll introduced by sponsor</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ittee Hear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es to other Senate </a:t>
            </a:r>
            <a:r>
              <a:rPr b="0" lang="en-US" sz="1800" spc="-1" strike="noStrike">
                <a:solidFill>
                  <a:srgbClr val="ffffff"/>
                </a:solidFill>
                <a:latin typeface="Times New Roman"/>
              </a:rPr>
              <a:t>(or House)</a:t>
            </a:r>
            <a:endParaRPr b="0" lang="en-US" sz="1800" spc="-1" strike="noStrike">
              <a:solidFill>
                <a:srgbClr val="ffffff"/>
              </a:solidFill>
              <a:latin typeface="Times New Roman"/>
            </a:endParaRPr>
          </a:p>
          <a:p>
            <a:pPr lvl="2" marL="885960" indent="-228600">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39" name="Picture 2" descr="C:\Users\Greg\AppData\Local\Microsoft\Windows\Temporary Internet Files\Content.IE5\CPXV5FA6\MC900056644[1].wmf"/>
          <p:cNvPicPr/>
          <p:nvPr/>
        </p:nvPicPr>
        <p:blipFill>
          <a:blip r:embed="rId1"/>
          <a:stretch/>
        </p:blipFill>
        <p:spPr>
          <a:xfrm>
            <a:off x="6705720" y="2819520"/>
            <a:ext cx="1803240" cy="17920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a bill become law</a:t>
            </a:r>
            <a:br>
              <a:rPr sz="3900"/>
            </a:br>
            <a:r>
              <a:rPr b="0" lang="en-US" sz="2800" spc="-1" strike="noStrike">
                <a:solidFill>
                  <a:srgbClr val="ffc000"/>
                </a:solidFill>
                <a:latin typeface="Arial"/>
              </a:rPr>
              <a:t>Round two</a:t>
            </a:r>
            <a:endParaRPr b="0" lang="en-US" sz="2800" spc="-1" strike="noStrike">
              <a:solidFill>
                <a:srgbClr val="d7f8fd"/>
              </a:solidFill>
              <a:latin typeface="Arial"/>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a:t>
            </a:r>
            <a:r>
              <a:rPr b="0" lang="en-US" sz="1800" spc="-1" strike="noStrike">
                <a:solidFill>
                  <a:srgbClr val="ffffff"/>
                </a:solidFill>
                <a:latin typeface="Times New Roman"/>
              </a:rPr>
              <a:t>(or house depending where it starts)</a:t>
            </a:r>
            <a:endParaRPr b="0" lang="en-US" sz="1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ittee Hear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es to Conference Committee or Governor</a:t>
            </a:r>
            <a:endParaRPr b="0" lang="en-US" sz="28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a bill become law</a:t>
            </a:r>
            <a:br>
              <a:rPr sz="3900"/>
            </a:br>
            <a:r>
              <a:rPr b="0" lang="en-US" sz="2800" spc="-1" strike="noStrike">
                <a:solidFill>
                  <a:srgbClr val="ff0000"/>
                </a:solidFill>
                <a:latin typeface="Arial"/>
              </a:rPr>
              <a:t>Round three</a:t>
            </a:r>
            <a:endParaRPr b="0" lang="en-US" sz="2800" spc="-1" strike="noStrike">
              <a:solidFill>
                <a:srgbClr val="d7f8fd"/>
              </a:solidFill>
              <a:latin typeface="Arial"/>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ference Committee (optional)</a:t>
            </a:r>
            <a:endParaRPr b="0" lang="en-US" sz="30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ppens when there are 2 versions of the bill</a:t>
            </a:r>
            <a:endParaRPr b="0" lang="en-US" sz="26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ppointed by House and Senate Leaders</a:t>
            </a:r>
            <a:endParaRPr b="0" lang="en-US" sz="22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on out differences</a:t>
            </a:r>
            <a:endParaRPr b="0" lang="en-US" sz="22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oes to both houses for final vote</a:t>
            </a:r>
            <a:endParaRPr b="0" lang="en-US" sz="22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overnor</a:t>
            </a:r>
            <a:endParaRPr b="0" lang="en-US" sz="30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n sign it into law</a:t>
            </a:r>
            <a:endParaRPr b="0" lang="en-US" sz="26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et it become law without approval</a:t>
            </a:r>
            <a:endParaRPr b="0" lang="en-US" sz="26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to the bill</a:t>
            </a:r>
            <a:endParaRPr b="0" lang="en-US" sz="26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be overridden buy 2/3 majority in both houses but only during the session.</a:t>
            </a:r>
            <a:endParaRPr b="0" lang="en-US" sz="22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What does this mean to us?</a:t>
            </a:r>
            <a:endParaRPr b="0" lang="en-US" sz="4300" spc="-1" strike="noStrike">
              <a:solidFill>
                <a:srgbClr val="d7f8fd"/>
              </a:solidFill>
              <a:latin typeface="Arial"/>
            </a:endParaRPr>
          </a:p>
        </p:txBody>
      </p:sp>
      <p:sp>
        <p:nvSpPr>
          <p:cNvPr id="34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re are 21 steps to the bill process</a:t>
            </a:r>
            <a:endParaRPr b="0" lang="en-US" sz="30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quires a Majority vote</a:t>
            </a:r>
            <a:endParaRPr b="0" lang="en-US" sz="26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3 out of 65 votes in the House</a:t>
            </a:r>
            <a:endParaRPr b="0" lang="en-US" sz="22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8 out of 35 votes in the Senate</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ach time there’s a vote a bill can be killed</a:t>
            </a:r>
            <a:endParaRPr b="0" lang="en-US" sz="26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re are 8-11 votes depending on process</a:t>
            </a:r>
            <a:endParaRPr b="0" lang="en-US" sz="2200" spc="-1" strike="noStrike">
              <a:solidFill>
                <a:srgbClr val="ffffff"/>
              </a:solidFill>
              <a:latin typeface="Times New Roman"/>
            </a:endParaRPr>
          </a:p>
          <a:p>
            <a:pPr lvl="3" marL="1096920" indent="-173160">
              <a:lnSpc>
                <a:spcPct val="80000"/>
              </a:lnSpc>
              <a:spcBef>
                <a:spcPts val="476"/>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That’s  255:1 odds or .4% that any bill will pass (no changes)</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Good chance to kill a bad bill</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Time and effort for good bills to pass</a:t>
            </a:r>
            <a:endParaRPr b="0" lang="en-US" sz="19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ach time there’s debate a bill can be changed</a:t>
            </a:r>
            <a:endParaRPr b="0" lang="en-US" sz="26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re are 6-7 debates depending on process</a:t>
            </a:r>
            <a:endParaRPr b="0" lang="en-US" sz="2200" spc="-1" strike="noStrike">
              <a:solidFill>
                <a:srgbClr val="ffffff"/>
              </a:solidFill>
              <a:latin typeface="Times New Roman"/>
            </a:endParaRPr>
          </a:p>
          <a:p>
            <a:pPr lvl="3" marL="1096920" indent="-173160">
              <a:lnSpc>
                <a:spcPct val="80000"/>
              </a:lnSpc>
              <a:spcBef>
                <a:spcPts val="476"/>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That’s 6:5 odds or 84% that any bill can be amended</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Good chance to make things better</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Be aware of hindering amendments</a:t>
            </a:r>
            <a:endParaRPr b="0" lang="en-US" sz="1900" spc="-1" strike="noStrike">
              <a:solidFill>
                <a:srgbClr val="ffffff"/>
              </a:solidFill>
              <a:latin typeface="Times New Roman"/>
            </a:endParaRPr>
          </a:p>
          <a:p>
            <a:pPr lvl="2" marL="885960" indent="-228600">
              <a:lnSpc>
                <a:spcPct val="80000"/>
              </a:lnSpc>
              <a:spcBef>
                <a:spcPts val="476"/>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Political views do count!</a:t>
            </a:r>
            <a:endParaRPr b="0" lang="en-US" sz="4300" spc="-1" strike="noStrike">
              <a:solidFill>
                <a:srgbClr val="d7f8fd"/>
              </a:solidFill>
              <a:latin typeface="Arial"/>
            </a:endParaRPr>
          </a:p>
        </p:txBody>
      </p:sp>
      <p:sp>
        <p:nvSpPr>
          <p:cNvPr id="34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No mater the party, research all candidates and think of how they will influence education.</a:t>
            </a:r>
            <a:endParaRPr b="0" lang="en-US" sz="27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Views on things like:</a:t>
            </a:r>
            <a:endParaRPr b="0" lang="en-US" sz="27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ending, vouchers, reform (positive and negative) and causes of all types.</a:t>
            </a:r>
            <a:endParaRPr b="0" lang="en-US" sz="24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se can determine if we are spending time and resources on:</a:t>
            </a:r>
            <a:endParaRPr b="0" lang="en-US" sz="27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ing the best education system we can.</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eating bills that hinder education (60, 61, 101)</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ghting for scraps because of too many pet projects</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sing “Golden Carrots” like RTTT</a:t>
            </a:r>
            <a:endParaRPr b="0" lang="en-US" sz="2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Think of the people recently elected</a:t>
            </a:r>
            <a:endParaRPr b="0" lang="en-US" sz="3900" spc="-1" strike="noStrike">
              <a:solidFill>
                <a:srgbClr val="d7f8fd"/>
              </a:solidFill>
              <a:latin typeface="Arial"/>
            </a:endParaRPr>
          </a:p>
        </p:txBody>
      </p:sp>
      <p:sp>
        <p:nvSpPr>
          <p:cNvPr id="34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jority party has control</a:t>
            </a:r>
            <a:endParaRPr b="0" lang="en-US" sz="32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ppoint people to head committees</a:t>
            </a:r>
            <a:endParaRPr b="0" lang="en-US" sz="28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when bills are read</a:t>
            </a:r>
            <a:endParaRPr b="0" lang="en-US" sz="28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Officers</a:t>
            </a:r>
            <a:endParaRPr b="0" lang="en-US" sz="32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or</a:t>
            </a:r>
            <a:endParaRPr b="0" lang="en-US" sz="2800" spc="-1" strike="noStrike">
              <a:solidFill>
                <a:srgbClr val="ffffff"/>
              </a:solidFill>
              <a:latin typeface="Times New Roman"/>
            </a:endParaRPr>
          </a:p>
          <a:p>
            <a:pPr lvl="2" marL="885960" indent="-228600">
              <a:lnSpc>
                <a:spcPct val="90000"/>
              </a:lnSpc>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s appoint redistricting of State seats</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retary of State </a:t>
            </a:r>
            <a:endParaRPr b="0" lang="en-US" sz="2800" spc="-1" strike="noStrike">
              <a:solidFill>
                <a:srgbClr val="ffffff"/>
              </a:solidFill>
              <a:latin typeface="Times New Roman"/>
            </a:endParaRPr>
          </a:p>
          <a:p>
            <a:pPr lvl="2" marL="885960" indent="-228600">
              <a:lnSpc>
                <a:spcPct val="90000"/>
              </a:lnSpc>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s petitions and election</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surer</a:t>
            </a:r>
            <a:endParaRPr b="0" lang="en-US" sz="2800" spc="-1" strike="noStrike">
              <a:solidFill>
                <a:srgbClr val="ffffff"/>
              </a:solidFill>
              <a:latin typeface="Times New Roman"/>
            </a:endParaRPr>
          </a:p>
          <a:p>
            <a:pPr lvl="2" marL="885960" indent="-228600">
              <a:lnSpc>
                <a:spcPct val="90000"/>
              </a:lnSpc>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luences where money is spent or cut.</a:t>
            </a:r>
            <a:endParaRPr b="0" lang="en-US" sz="2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What can you do?</a:t>
            </a:r>
            <a:endParaRPr b="0" lang="en-US" sz="4300" spc="-1" strike="noStrike">
              <a:solidFill>
                <a:srgbClr val="d7f8fd"/>
              </a:solidFill>
              <a:latin typeface="Arial"/>
            </a:endParaRPr>
          </a:p>
        </p:txBody>
      </p:sp>
      <p:sp>
        <p:nvSpPr>
          <p:cNvPr id="35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bby</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e, email, letters, rally</a:t>
            </a:r>
            <a:endParaRPr b="0" lang="en-US" sz="24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ions</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TE</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candidates </a:t>
            </a:r>
            <a:endParaRPr b="0" lang="en-US" sz="2400" spc="-1" strike="noStrike">
              <a:solidFill>
                <a:srgbClr val="ffffff"/>
              </a:solidFill>
              <a:latin typeface="Times New Roman"/>
            </a:endParaRPr>
          </a:p>
          <a:p>
            <a:pPr lvl="3" marL="1096920" indent="-173160">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alk &amp; talk, phone bank, support them</a:t>
            </a:r>
            <a:endParaRPr b="0" lang="en-US" sz="2000" spc="-1" strike="noStrike">
              <a:solidFill>
                <a:srgbClr val="ffffff"/>
              </a:solidFill>
              <a:latin typeface="Times New Roman"/>
            </a:endParaRPr>
          </a:p>
          <a:p>
            <a:pPr lvl="3" marL="1096920" indent="-173160">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A &amp; NEA Help directly and indirectly</a:t>
            </a:r>
            <a:endParaRPr b="0" lang="en-US" sz="20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hip</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others involved</a:t>
            </a:r>
            <a:endParaRPr b="0" lang="en-US" sz="32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Meet your lobbyist</a:t>
            </a:r>
            <a:endParaRPr b="0" lang="en-US" sz="4300" spc="-1" strike="noStrike">
              <a:solidFill>
                <a:srgbClr val="d7f8fd"/>
              </a:solidFill>
              <a:latin typeface="Arial"/>
            </a:endParaRPr>
          </a:p>
        </p:txBody>
      </p:sp>
      <p:pic>
        <p:nvPicPr>
          <p:cNvPr id="353" name="Lobbyist interviews.m4v" descr=""/>
          <p:cNvPicPr/>
          <p:nvPr/>
        </p:nvPicPr>
        <p:blipFill>
          <a:blip r:embed="rId1"/>
          <a:stretch/>
        </p:blipFill>
        <p:spPr>
          <a:xfrm>
            <a:off x="3660840" y="2705040"/>
            <a:ext cx="3047760" cy="2286000"/>
          </a:xfrm>
          <a:prstGeom prst="rect">
            <a:avLst/>
          </a:prstGeom>
          <a:ln w="0">
            <a:noFill/>
          </a:ln>
        </p:spPr>
      </p:pic>
      <p:pic>
        <p:nvPicPr>
          <p:cNvPr id="354" name="Lobbyist interviews.m4v" descr=""/>
          <p:cNvPicPr/>
          <p:nvPr/>
        </p:nvPicPr>
        <p:blipFill>
          <a:blip r:embed="rId2"/>
          <a:stretch/>
        </p:blipFill>
        <p:spPr>
          <a:xfrm>
            <a:off x="1066680" y="1523880"/>
            <a:ext cx="7925040" cy="502920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353"/>
                    </p:tgtEl>
                  </p:cond>
                </p:stCondLst>
                <p:childTnLst>
                  <p:par>
                    <p:cTn id="3" fill="hold">
                      <p:stCondLst>
                        <p:cond evt="onClick">
                          <p:tgtEl>
                            <p:spTgt spid="3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54"/>
                    </p:tgtEl>
                  </p:cond>
                </p:stCondLst>
                <p:childTnLst>
                  <p:par>
                    <p:cTn id="8" fill="hold">
                      <p:stCondLst>
                        <p:cond evt="onClick">
                          <p:tgtEl>
                            <p:spTgt spid="35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56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More information</a:t>
            </a:r>
            <a:endParaRPr b="0" lang="en-US" sz="4300" spc="-1" strike="noStrike">
              <a:solidFill>
                <a:srgbClr val="d7f8fd"/>
              </a:solidFill>
              <a:latin typeface="Arial"/>
            </a:endParaRPr>
          </a:p>
        </p:txBody>
      </p:sp>
      <p:sp>
        <p:nvSpPr>
          <p:cNvPr id="356" name=""/>
          <p:cNvSpPr txBox="1"/>
          <p:nvPr/>
        </p:nvSpPr>
        <p:spPr>
          <a:xfrm>
            <a:off x="1434960" y="1066680"/>
            <a:ext cx="7499520" cy="563904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ay current with CEA</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e capital (all things legislative at CEA) </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a:t>
            </a:r>
            <a:r>
              <a:rPr b="0" lang="en-US" sz="1800" spc="-1" strike="noStrike">
                <a:solidFill>
                  <a:srgbClr val="ff0000"/>
                </a:solidFill>
                <a:latin typeface="Times New Roman"/>
              </a:rPr>
              <a:t>coloradoea.org/atthecapitol/legnews.cfm</a:t>
            </a:r>
            <a:endParaRPr b="0" lang="en-US" sz="18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 up for the Capitol Connection </a:t>
            </a:r>
            <a:r>
              <a:rPr b="0" lang="en-US" sz="1400" spc="-1" strike="noStrike">
                <a:solidFill>
                  <a:srgbClr val="ffffff"/>
                </a:solidFill>
                <a:latin typeface="Times New Roman"/>
              </a:rPr>
              <a:t>(e-news of Leg. session)</a:t>
            </a:r>
            <a:endParaRPr b="0" lang="en-US" sz="14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www.ceacapconn.wordpress.com</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gislative Glossary</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and understand the legislative language</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http://www.c-span.org/guide/congress/glossary/alphalist.htm</a:t>
            </a:r>
            <a:endParaRPr b="0" lang="en-US" sz="18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Times New Roman"/>
              </a:rPr>
              <a:t>http://www.gpoaccess.gov/bills/glossary.html</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oberts Rules of Order </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the process of the legislative session</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http://www.rulesonline.com/</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now your organization</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A</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coloradoea.org</a:t>
            </a:r>
            <a:endParaRPr b="0" lang="en-US" sz="18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nea.org</a:t>
            </a:r>
            <a:endParaRPr b="0" lang="en-US" sz="1800" spc="-1" strike="noStrike">
              <a:solidFill>
                <a:srgbClr val="ffffff"/>
              </a:solidFill>
              <a:latin typeface="Times New Roman"/>
            </a:endParaRPr>
          </a:p>
          <a:p>
            <a:pPr lvl="2" marL="885960" indent="-228600">
              <a:lnSpc>
                <a:spcPct val="80000"/>
              </a:lnSpc>
              <a:spcBef>
                <a:spcPts val="374"/>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2" marL="885960" indent="-228600">
              <a:lnSpc>
                <a:spcPct val="80000"/>
              </a:lnSpc>
              <a:spcBef>
                <a:spcPts val="374"/>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2" marL="885960" indent="-228600">
              <a:lnSpc>
                <a:spcPct val="80000"/>
              </a:lnSpc>
              <a:spcBef>
                <a:spcPts val="374"/>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Why are we involved in politics?</a:t>
            </a:r>
            <a:endParaRPr b="0" lang="en-US" sz="3900" spc="-1" strike="noStrike">
              <a:solidFill>
                <a:srgbClr val="d7f8fd"/>
              </a:solidFill>
              <a:latin typeface="Arial"/>
            </a:endParaRPr>
          </a:p>
        </p:txBody>
      </p:sp>
      <p:sp>
        <p:nvSpPr>
          <p:cNvPr id="32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r Children and Public Education (CEA Website)</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c education policy and politics are inextricably linked. Sad fact or great opportunity? We think it's a great opportunity to influence elected officials for public education's benefit and improvement.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ected officials – from school boards and state agencies to the State House and the White House – make decisions that affect public school employees. Through law and policy, they make decisions about funding; curriculum; standards and assessments; employee salaries, benefits and retirement; school safety; class size; students with special needs; school facilities; labor laws and collective bargaining; and much, much more.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nearly impossible for elected officials to convene without making a decision that affects public education. That's why our Association is involved in politics, on top of political issues, and working to protect and advance public education and education employees' issues in the political arena. That's why our members work in school board elections and local mill levy and bond elections. It's why we recommend candidates for the Legislature, statewide offices, Colorado's Congressional delegation, and U.S. President. And it's why we are involved in ballot initiative and referenda campaigns.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our job as advocates for public education and education employees!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CEA lobby</a:t>
            </a:r>
            <a:br>
              <a:rPr sz="3900"/>
            </a:br>
            <a:r>
              <a:rPr b="0" lang="en-US" sz="3900" spc="-1" strike="noStrike">
                <a:solidFill>
                  <a:srgbClr val="d7f8fd"/>
                </a:solidFill>
                <a:latin typeface="Arial"/>
              </a:rPr>
              <a:t>3 Tiers of lobbying</a:t>
            </a:r>
            <a:br>
              <a:rPr sz="3900"/>
            </a:br>
            <a:endParaRPr b="0" lang="en-US" sz="3900" spc="-1" strike="noStrike">
              <a:solidFill>
                <a:srgbClr val="d7f8fd"/>
              </a:solidFill>
              <a:latin typeface="Arial"/>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bbying Team</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gislative Liaisons</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hip</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Tier 1</a:t>
            </a:r>
            <a:br>
              <a:rPr sz="3900"/>
            </a:br>
            <a:endParaRPr b="0" lang="en-US" sz="3900" spc="-1" strike="noStrike">
              <a:solidFill>
                <a:srgbClr val="d7f8fd"/>
              </a:solidFill>
              <a:latin typeface="Arial"/>
            </a:endParaRPr>
          </a:p>
        </p:txBody>
      </p:sp>
      <p:sp>
        <p:nvSpPr>
          <p:cNvPr id="326" name=""/>
          <p:cNvSpPr txBox="1"/>
          <p:nvPr/>
        </p:nvSpPr>
        <p:spPr>
          <a:xfrm>
            <a:off x="1434960" y="1447560"/>
            <a:ext cx="7499520" cy="4800600"/>
          </a:xfrm>
          <a:prstGeom prst="rect">
            <a:avLst/>
          </a:prstGeom>
          <a:noFill/>
          <a:ln w="0">
            <a:noFill/>
          </a:ln>
        </p:spPr>
        <p:txBody>
          <a:bodyPr lIns="90000" rIns="90000" tIns="46800" bIns="46800" anchor="t">
            <a:normAutofit/>
          </a:bodyPr>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Lobbying Team</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ren Wick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T lobbyist</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lie Whitacr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T lobbyist</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verly Ingl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EA President</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ny Salaza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ecutive Director</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ynne Maso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olitical Director</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 House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eneral Counsel</a:t>
            </a: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Tier 2</a:t>
            </a:r>
            <a:endParaRPr b="0" lang="en-US" sz="4300" spc="-1" strike="noStrike">
              <a:solidFill>
                <a:srgbClr val="d7f8fd"/>
              </a:solidFill>
              <a:latin typeface="Arial"/>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gislative Liaisons</a:t>
            </a:r>
            <a:endParaRPr b="0" lang="en-US" sz="32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nteer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relationships with assigned Legislator</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 to face at least once a month </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ail, phone, letters</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 them about education issues</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bby them on specific bills when asked</a:t>
            </a:r>
            <a:endParaRPr b="0" lang="en-US" sz="2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Tier 3</a:t>
            </a:r>
            <a:endParaRPr b="0" lang="en-US" sz="4300" spc="-1" strike="noStrike">
              <a:solidFill>
                <a:srgbClr val="d7f8fd"/>
              </a:solidFill>
              <a:latin typeface="Arial"/>
            </a:endParaRPr>
          </a:p>
        </p:txBody>
      </p:sp>
      <p:sp>
        <p:nvSpPr>
          <p:cNvPr id="3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hip</a:t>
            </a:r>
            <a:endParaRPr b="0" lang="en-US" sz="32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llie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bby Day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ter writing/phone/email campaign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State, and National involvement</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age the community in the education effort</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CEA determine</a:t>
            </a:r>
            <a:br>
              <a:rPr sz="3900"/>
            </a:br>
            <a:r>
              <a:rPr b="0" lang="en-US" sz="3900" spc="-1" strike="noStrike">
                <a:solidFill>
                  <a:srgbClr val="d7f8fd"/>
                </a:solidFill>
                <a:latin typeface="Arial"/>
              </a:rPr>
              <a:t>the Agenda to legislation</a:t>
            </a:r>
            <a:endParaRPr b="0" lang="en-US" sz="3900" spc="-1" strike="noStrike">
              <a:solidFill>
                <a:srgbClr val="d7f8fd"/>
              </a:solidFill>
              <a:latin typeface="Arial"/>
            </a:endParaRPr>
          </a:p>
        </p:txBody>
      </p:sp>
      <p:sp>
        <p:nvSpPr>
          <p:cNvPr id="33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EA - RA: April </a:t>
            </a:r>
            <a:endParaRPr b="0" lang="en-US" sz="27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EA Leg. Team reviews leg. bills</a:t>
            </a:r>
            <a:endParaRPr b="0" lang="en-US" sz="27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lie, Karen, Linda, &amp; Tony (sometimes CEA board)</a:t>
            </a:r>
            <a:endParaRPr b="0" lang="en-US" sz="2400" spc="-1" strike="noStrike">
              <a:solidFill>
                <a:srgbClr val="ffffff"/>
              </a:solidFill>
              <a:latin typeface="Times New Roman"/>
            </a:endParaRPr>
          </a:p>
          <a:p>
            <a:pPr lvl="2" marL="885960" indent="-228600">
              <a:lnSpc>
                <a:spcPct val="80000"/>
              </a:lnSpc>
              <a:spcBef>
                <a:spcPts val="499"/>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ad all bill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3" marL="1096920" indent="-173160">
              <a:lnSpc>
                <a:spcPct val="80000"/>
              </a:lnSpc>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it effect education?</a:t>
            </a:r>
            <a:endParaRPr b="0" lang="en-US" sz="2000" spc="-1" strike="noStrike">
              <a:solidFill>
                <a:srgbClr val="ffffff"/>
              </a:solidFill>
              <a:latin typeface="Times New Roman"/>
            </a:endParaRPr>
          </a:p>
          <a:p>
            <a:pPr lvl="4" marL="1297080" indent="-182520">
              <a:lnSpc>
                <a:spcPct val="80000"/>
              </a:lnSpc>
              <a:spcBef>
                <a:spcPts val="499"/>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s our stance based on Leg. Agenda</a:t>
            </a:r>
            <a:endParaRPr b="0" lang="en-US" sz="2000" spc="-1" strike="noStrike">
              <a:solidFill>
                <a:srgbClr val="ffffff"/>
              </a:solidFill>
              <a:latin typeface="Times New Roman"/>
            </a:endParaRPr>
          </a:p>
          <a:p>
            <a:pPr lvl="3" marL="1096920" indent="-173160">
              <a:lnSpc>
                <a:spcPct val="80000"/>
              </a:lnSpc>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me Plan</a:t>
            </a:r>
            <a:endParaRPr b="0" lang="en-US" sz="2000" spc="-1" strike="noStrike">
              <a:solidFill>
                <a:srgbClr val="ffffff"/>
              </a:solidFill>
              <a:latin typeface="Times New Roman"/>
            </a:endParaRPr>
          </a:p>
          <a:p>
            <a:pPr lvl="4" marL="1297080" indent="-182520">
              <a:lnSpc>
                <a:spcPct val="80000"/>
              </a:lnSpc>
              <a:spcBef>
                <a:spcPts val="499"/>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o, What, Where, When , and How </a:t>
            </a:r>
            <a:endParaRPr b="0" lang="en-US" sz="2000" spc="-1" strike="noStrike">
              <a:solidFill>
                <a:srgbClr val="ffffff"/>
              </a:solidFill>
              <a:latin typeface="Times New Roman"/>
            </a:endParaRPr>
          </a:p>
          <a:p>
            <a:pPr lvl="4" marL="1297080" indent="-182520">
              <a:lnSpc>
                <a:spcPct val="80000"/>
              </a:lnSpc>
              <a:spcBef>
                <a:spcPts val="499"/>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unch the numbers</a:t>
            </a:r>
            <a:endParaRPr b="0" lang="en-US" sz="20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tart lobbying</a:t>
            </a:r>
            <a:endParaRPr b="0" lang="en-US" sz="27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NEA Legislative Agenda </a:t>
            </a:r>
            <a:endParaRPr b="0" lang="en-US" sz="27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d at NEA-RA: July</a:t>
            </a:r>
            <a:endParaRPr b="0" lang="en-US" sz="2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Who can introduces the bills?</a:t>
            </a:r>
            <a:endParaRPr b="0" lang="en-US" sz="4300" spc="-1" strike="noStrike">
              <a:solidFill>
                <a:srgbClr val="d7f8fd"/>
              </a:solidFill>
              <a:latin typeface="Arial"/>
            </a:endParaRPr>
          </a:p>
        </p:txBody>
      </p:sp>
      <p:sp>
        <p:nvSpPr>
          <p:cNvPr id="33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gislators</a:t>
            </a:r>
            <a:endParaRPr b="0" lang="en-US" sz="32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se and Senate can introduce 5 bills each</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may introduce a bill persuaded by governor, treasurer, or others (political agendas good or bad) </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average of 500 bills a session </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s can be added later “late” bills with special exemption</a:t>
            </a:r>
            <a:endParaRPr b="0" lang="en-US" sz="24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1720" y="360000"/>
            <a:ext cx="7407000" cy="101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Meet Bill!</a:t>
            </a:r>
            <a:endParaRPr b="0" lang="en-US" sz="4300" spc="-1" strike="noStrike">
              <a:solidFill>
                <a:srgbClr val="d7f8fd"/>
              </a:solidFill>
              <a:latin typeface="Arial"/>
            </a:endParaRPr>
          </a:p>
        </p:txBody>
      </p:sp>
      <p:sp>
        <p:nvSpPr>
          <p:cNvPr id="33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9296"/>
                </a:solidFill>
                <a:latin typeface="Times New Roman"/>
              </a:rPr>
              <a:t>SchoolTube - I'm Just a Bill</a:t>
            </a:r>
            <a:endParaRPr b="0" lang="en-US" sz="26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04:53Z</dcterms:created>
  <dc:creator>Greg</dc:creator>
  <dc:description/>
  <dc:language>en-US</dc:language>
  <cp:lastModifiedBy>Greg</cp:lastModifiedBy>
  <dcterms:modified xsi:type="dcterms:W3CDTF">2010-12-11T01:59:05Z</dcterms:modified>
  <cp:revision>16</cp:revision>
  <dc:subject/>
  <dc:title>Legislation</dc:title>
</cp:coreProperties>
</file>